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844-F814-4261-8895-CFEFF7D1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D48-515B-404E-9879-7BCF3CB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8FF-C3D3-4F96-9602-7C9DA2A9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AD9-28DD-4890-8C44-E11603AD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5F7-AE53-40D8-916E-DD5BEB74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9CB-A9ED-4FC5-9DA7-9B6947A1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498-EFC7-4E3F-B377-8FE76AFF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E56-53D3-4C4F-9C0F-9FB53D2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D34-53EF-45D3-83E4-638B5073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72D-2FE5-4BD8-A621-3E64C7D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0A6-3EBC-41B2-BA3C-A35FFAC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90E-23EC-4298-90FE-8DCDE77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AB6B-DB9D-464D-8EF6-87ED19D5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rtistic%20leaves"/>
          <p:cNvPicPr/>
          <p:nvPr/>
        </p:nvPicPr>
        <p:blipFill>
          <a:blip r:embed="rId1"/>
          <a:stretch/>
        </p:blipFill>
        <p:spPr>
          <a:xfrm>
            <a:off x="-3060720" y="-20430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13160" y="7410600"/>
            <a:ext cx="8459640" cy="70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EAVES AND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olar%20panel"/>
          <p:cNvPicPr/>
          <p:nvPr/>
        </p:nvPicPr>
        <p:blipFill>
          <a:blip r:embed="rId1"/>
          <a:stretch/>
        </p:blipFill>
        <p:spPr>
          <a:xfrm>
            <a:off x="755640" y="849240"/>
            <a:ext cx="770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Leaves work in a similar way to the solar cell. They both need a lot of light energy to work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Photosynthesis takes place in the </a:t>
            </a:r>
            <a:r>
              <a:rPr b="1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chloroplasts</a:t>
            </a:r>
            <a:r>
              <a:rPr b="0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inside the leaf cel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Chloroplasts contain </a:t>
            </a:r>
            <a:r>
              <a:rPr b="1" lang="en-GB" sz="4000" spc="-1" strike="noStrike">
                <a:solidFill>
                  <a:srgbClr val="99cc00"/>
                </a:solidFill>
                <a:latin typeface="Segoe UI"/>
                <a:ea typeface="Segoe UI"/>
              </a:rPr>
              <a:t>chlorophyll</a:t>
            </a: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, a green pigment that takes in energy from the sunlight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All green parts of plants are able to photosynthesis because they contain chlorophy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oh%20River%20Rain%20Forest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Segoe UI"/>
                <a:ea typeface="Segoe UI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af"/>
          <p:cNvPicPr/>
          <p:nvPr/>
        </p:nvPicPr>
        <p:blipFill>
          <a:blip r:embed="rId1"/>
          <a:stretch/>
        </p:blipFill>
        <p:spPr>
          <a:xfrm>
            <a:off x="2484360" y="1700280"/>
            <a:ext cx="45054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964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4076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3528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020000" y="141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561440" y="4076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8436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619280" y="285264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61928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619280" y="3357720"/>
            <a:ext cx="865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763640" y="3860640"/>
            <a:ext cx="792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63640" y="450864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835280" y="494172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V="1">
            <a:off x="3132000" y="58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 flipH="1">
            <a:off x="6803640" y="1773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6803640" y="422100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34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are palisade cells special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ts of chloroplasts, which contain chlorophyll to catch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ng and thin, so they pack closely together to collec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They are at the top of the leaves, to ge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does the carbon dioxide get inside the l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eaf_cross_section_labled"/>
          <p:cNvPicPr/>
          <p:nvPr/>
        </p:nvPicPr>
        <p:blipFill>
          <a:blip r:embed="rId1"/>
          <a:stretch/>
        </p:blipFill>
        <p:spPr>
          <a:xfrm>
            <a:off x="1187280" y="1484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5:01:06Z</dcterms:created>
  <dc:creator>Jo test</dc:creator>
  <dc:description/>
  <dc:language>en-US</dc:language>
  <cp:lastModifiedBy>oskar jaskiewicz</cp:lastModifiedBy>
  <dcterms:modified xsi:type="dcterms:W3CDTF">2014-08-19T12:42:19Z</dcterms:modified>
  <cp:revision>9</cp:revision>
  <dc:subject/>
  <dc:title>Slide 1</dc:title>
</cp:coreProperties>
</file>